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0AA-5506-4D1D-A05B-11E14364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8C5-EDD4-4325-89C0-C5A69814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7B7-AB79-4600-BC69-199C6867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386-3D98-42B3-8B67-DB1CEB22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67B-7CF1-415A-A46D-A079D167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C00-0D7B-42C4-99ED-4809A79F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B41-6DBC-482B-85C8-C05DBF29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3F4-2CDA-4F63-BC56-A514FED8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773-5C49-4F21-AF7C-CF05C604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D89-699E-4B29-8C62-B5150D1E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F9D-3F1E-41F3-937C-AE97DDFA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C5C-8155-49DD-A6CD-DB093044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0AC0-12A9-4C86-ABFF-59C9813496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6:13Z</dcterms:modified>
  <cp:revision>16</cp:revision>
  <dc:subject/>
  <dc:title>Спутники Юпи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  <property fmtid="{D5CDD505-2E9C-101B-9397-08002B2CF9AE}" pid="3" name="Version">
    <vt:r8>1</vt:r8>
  </property>
</Properties>
</file>